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E3BAE-32B8-4698-814D-E081FE1FF1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4D93-B83C-4F45-9F50-429480596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753D1-94FC-45A8-8E84-D2798AC36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E3353-A4E8-4F56-A1D9-076FFABCA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18DE-B2B1-4CC3-81F0-0544D4E0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612-568D-4A11-BF31-49839C26B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C664-3325-4E23-AADE-8D5492DB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7FA-37AC-44C4-8CEF-FA030E79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69AA-3153-407C-A62A-3A6188CF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24B-098E-4296-B607-15BF2F6D0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102FD-5FB8-49A6-97C8-B2F5B1F2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EDE1-9238-4795-AA89-5C609294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E88-1689-4BAA-AED4-538EC1A2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AC4-60AB-4B66-891F-1ED43345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B9D7-449A-4896-863A-5240F4EC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A22E-32D2-48DB-B196-3A734181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5E0-A688-4CD1-8B46-0058C0C3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FD6-6BDA-4168-812A-ECA07C37AE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A27CA-ABB5-4D29-B3D8-2243FF52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C645-D603-4B5A-92D8-23CD1434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78DC-F4A8-4566-B640-359BD296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B218-AD17-47D6-9A79-6065CC9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B669-9507-404D-86B2-A5AF287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0D63-9622-4B2B-B78A-917433D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BB7C-F56C-4DE6-B256-4EB308F0793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F27B-97E8-419F-A01E-6F35438207F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和抗真菌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44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  菌  谱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谱   分枝杆菌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病毒、衣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，为抑菌和杀菌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依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酶，阻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RN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药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单用易产生耐药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755640" y="1125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二、利福平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rifampi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楷体_GB2312"/>
              </a:rPr>
              <a:t>体内过程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幼圆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幼圆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吸收快、完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乙酰化代谢，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协同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药酶诱导剂，能加速避孕药等代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从胆汁排泄，分泌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、粪、泪液、痰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呈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2500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结核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风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耐药金葡菌等敏感菌引起感染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4336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468360" y="364500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胃肠刺激反应，较常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，少数人出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敏反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餐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顿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对氨基水杨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合用时，两药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及利眠宁可减少本品在肠道的吸收，必须合用时应间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肝脏损害的表现及劝告病人禁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先告诉病人服用利福平可使大、小便、汗液、泪液、唾液和痰液变成橘红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福平在潮湿环境下容易失效，故应放于干燥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对繁殖期结核杆菌有较强抑制作用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耐  药  性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易产生耐药性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与异烟肼、利福平合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球后视神经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做眼科检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090880" y="1025640"/>
            <a:ext cx="31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三、乙胺丁醇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ethambutal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9560" y="173340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现最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穿透力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毒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联合用药，尤其结核病急性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2291040" y="1170000"/>
            <a:ext cx="34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四、链霉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streptomyc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142640" y="17524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较强抑菌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易产生耐药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应用有肝毒性，联合用药参与短程疗法，不良反应明显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834200" y="1170000"/>
            <a:ext cx="45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五、吡嗪酰胺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pyrazinamide, PZ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抗结核病药应用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病灶内的结核杆菌生长旺盛，对药物敏感，且病灶局部血液循环丰富，药物易渗入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用药和长期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提高疗效、降低毒性、延缓耐药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规律和足量用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二节 抗真菌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09120" y="2285640"/>
            <a:ext cx="2057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各种癣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新型隐球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白色念珠菌</a:t>
            </a:r>
            <a:r>
              <a:rPr b="0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133720" y="1143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Times New Roman"/>
                <a:ea typeface="楷体_GB2312"/>
              </a:rPr>
              <a:t>真菌所致疾病与常用药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553080" y="2362320"/>
            <a:ext cx="1828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灰黄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制霉菌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特比萘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康 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两性霉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咪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三 唑 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429000" y="2362320"/>
            <a:ext cx="228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浅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头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体  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指甲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深部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脑膜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肺  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心内膜炎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27432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5715000" y="25909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2666880" y="4648320"/>
            <a:ext cx="609840" cy="75960"/>
          </a:xfrm>
          <a:prstGeom prst="rightArrow">
            <a:avLst>
              <a:gd name="adj1" fmla="val 50000"/>
              <a:gd name="adj2" fmla="val 200711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715000" y="4648320"/>
            <a:ext cx="609480" cy="75960"/>
          </a:xfrm>
          <a:prstGeom prst="rightArrow">
            <a:avLst>
              <a:gd name="adj1" fmla="val 50000"/>
              <a:gd name="adj2" fmla="val 200592"/>
            </a:avLst>
          </a:prstGeom>
          <a:solidFill>
            <a:srgbClr val="8ac8de"/>
          </a:solidFill>
          <a:ln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异烟肼、利福平的作用机制、应用及不良反应；抗结核药应用原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两性霉素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、氟康唑、氟胞嘧啶等抗真菌药的作用特点及其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熟悉：乙胺丁醇、链霉素的抗结核特点；抗真菌药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了解：抗结核病二线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灰黄霉素</a:t>
            </a:r>
            <a:r>
              <a:rPr b="1" lang="en-US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(griseofulvin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入皮肤角质层与角蛋白结合，干扰真菌核酸 合成，抑制其生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给药途径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有效，外用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应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治疗各种癣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胃肠道反应和神经系统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60948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一、治疗浅部真菌感染的药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0920" y="2204640"/>
            <a:ext cx="80010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Verdana"/>
                <a:ea typeface="幼圆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烯类，抗菌谱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各类真菌均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阴道滴虫有抑制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539640" y="36450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用于胃肠真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部用于皮肤、口腔、阴道真菌病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阴道霉菌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93480" y="1197000"/>
            <a:ext cx="32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制霉菌素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nystatin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克霉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clotrim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唑类抗真菌药，具有广谱抗真菌活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局部外用治疗皮肤癣菌引起的体癣、手足癣和耳道真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口含片用于治疗鹅口疮，栓剂用于治疗阴道念珠菌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深部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1048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两性霉素</a:t>
            </a:r>
            <a:r>
              <a:rPr b="1" lang="en-US" sz="3600" spc="-1" strike="noStrike">
                <a:solidFill>
                  <a:srgbClr val="1d1496"/>
                </a:solidFill>
                <a:latin typeface="宋体"/>
                <a:ea typeface="宋体"/>
              </a:rPr>
              <a:t>B (amphotericin B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深部真菌有强大抑制作用，高浓度杀菌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性与真菌细胞膜类固醇结合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增加膜的通透性，导致细胞内重要物质外漏而发挥抗菌作用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选治疗深部真菌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不良反应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见而严重，表现为蛋白尿、管型尿和尿素氮升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钾血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、过敏反应和贫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少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刺激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射部位易发生血栓性静脉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注过快可导致心律失常或心脏停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静滴过程或以后数小时可发生寒战、高热、恶心、呕吐、厌食、头痛、肌肉痛和关节痛，有时伴有血压降低、眩晕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起的高热、头痛和过敏反应发生，因此静滴前半小时常需给病人服用解热镇痛药和抗组胺药，滴注液中加生理量的氢化可的松或地塞米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减少血栓性静脉炎的发生，静脉滴注液应适当稀释，并经常更换注射部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性霉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光、热不稳定，应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避光密闭保存。稀释时不能用生理盐水，否则会发生沉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定期做血、尿常规，肝肾功能、血钾和心电图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胞嘧啶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flucytosin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菌机制是干扰真菌核酸和蛋白质合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治疗敏感菌株所致的深部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效不如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易产生耐药性，故主张与两性霉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用以增强疗效，减少耐药性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多见胃肠道反应及皮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酮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keto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口服广谱抗真菌药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常见胃肠道反应，少数患者出现肝损害，影响雄激素、皮质激素等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咪康唑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(miconazol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口服吸收少，必须静脉注射，毒性较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局部用药疗效优于克霉唑或制霉菌素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氟康唑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fluconazole)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唑类广谱抗真菌药，可口服，也可静脉滴注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用于各种真菌引起的脑膜炎和皮质下真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少，耐受性较其他抗真菌药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广谱抗真菌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伊曲康唑（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itraconazole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唑类口服广谱抗真菌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许多真菌的浅部感染，尤其是甲真菌病，治愈率高而复发率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较轻，一般能较好地耐受，主要为胃肠道反应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宋体"/>
                <a:ea typeface="宋体"/>
              </a:rPr>
              <a:t>第一节   抗结核病药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4db8174djw1ebc93he3yqj20sf0izwmn"/>
          <p:cNvPicPr/>
          <p:nvPr/>
        </p:nvPicPr>
        <p:blipFill>
          <a:blip r:embed="rId1"/>
          <a:stretch/>
        </p:blipFill>
        <p:spPr>
          <a:xfrm>
            <a:off x="1042920" y="1173240"/>
            <a:ext cx="6985080" cy="41385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3635280" y="5516640"/>
            <a:ext cx="187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Imprint MT Shadow"/>
                <a:ea typeface="宋体"/>
              </a:rPr>
              <a:t>The end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3860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线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氨水杨酸  乙硫异烟胺  卷曲霉素 环丝氨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84360" y="1773360"/>
            <a:ext cx="8001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一线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烟肼    利福平    链霉素    吡嗪酰胺    乙胺丁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114560" y="1177920"/>
            <a:ext cx="189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抗结核病药包括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09120" y="251460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抗菌机制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分枝菌酸合成，减弱结核杆菌的耐酸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杀菌和抑菌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产生耐药性，强调联合用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85800" y="1371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一、异烟肼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(isoniazid, INH, 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雷米封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作用特点</a:t>
            </a: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效、价廉，口服吸收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是抗结核病的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量小，穿透力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部分经乙酰化代谢，存在快、慢乙酰化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型，影响药物疗效和毒性的发生率和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601992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临床应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轻症结核病或预防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类型的结核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5802480" y="407520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楷体_GB2312"/>
                <a:ea typeface="楷体_GB2312"/>
              </a:rPr>
              <a:t>不良反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、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应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①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神经炎和中枢神经系统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致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 GABA↓ → CN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乙酰化多见，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t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量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②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损害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化产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乙酰异烟肼（肝毒物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乙酰化多见，定期复查肝功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药疗监护须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肝功能不良症状，每月检查一次肝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期间应劝告患者禁酒，以减少肝损害的危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反应，如手足麻木、刺痛、烧灼感及中枢神经系统损害的症状，发现异常应及时报告医生。长期服用异烟肼时，应坚持服用维生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6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本药可干扰正常糖代谢，糖尿病患者需应用此药时，护理人员应注意观察糖尿病的病情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般应空腹服药以利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酸药能抑制该药吸收，如需服用抗酸药时应告诉病人不要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45:20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